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wmf" ContentType="image/x-wmf"/>
  <Override PartName="/ppt/media/image1.jpeg" ContentType="image/jpeg"/>
  <Override PartName="/ppt/media/image27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4.jpeg" ContentType="image/jpeg"/>
  <Override PartName="/ppt/media/image8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23.gif" ContentType="image/gif"/>
  <Override PartName="/ppt/media/image7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30.wmf" ContentType="image/x-wmf"/>
  <Override PartName="/ppt/media/image3.jpeg" ContentType="image/jpeg"/>
  <Override PartName="/ppt/media/image14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9.jpeg" ContentType="image/jpeg"/>
  <Override PartName="/ppt/media/image29.wmf" ContentType="image/x-wmf"/>
  <Override PartName="/ppt/media/image20.gif" ContentType="image/gif"/>
  <Override PartName="/ppt/media/image6.jpeg" ContentType="image/jpeg"/>
  <Override PartName="/ppt/media/image21.wmf" ContentType="image/x-wmf"/>
  <Override PartName="/ppt/media/image26.gif" ContentType="image/gif"/>
  <Override PartName="/ppt/media/image22.wmf" ContentType="image/x-wm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8D5-4ECF-43D0-8AE5-A320DA70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EF6-F30A-41EB-BDE0-370468C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7B3-E812-4D37-9C49-F6EEB5D0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452-5E93-4C84-A8D6-7B32A6E3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D65C-8D3A-4572-8D47-3E3761C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830-821A-4044-BA27-DEAB53A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158-9AB2-4939-B56E-BA9A06E4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254-0189-4B2C-9082-17B77F8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060-916D-4C06-8B2D-99D5D05D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A59-55D4-4BCD-8C2F-3862C83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62A-07A5-49B8-9CE3-B3B6CE3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876-197A-402D-9A28-4105C4A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706-4B20-411C-AD27-9D8C8DDB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SeaWorld gebliebe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ein Buch ge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286000" cy="205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4647960" cy="369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in die Strasse spaz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89520" y="4132440"/>
            <a:ext cx="4254480" cy="27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3124080" cy="269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Flordia geflim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179532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895480" cy="266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31780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usic"/>
          <p:cNvSpPr/>
          <p:nvPr/>
        </p:nvSpPr>
        <p:spPr>
          <a:xfrm>
            <a:off x="5943600" y="2209680"/>
            <a:ext cx="2514600" cy="4114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52960" cy="192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090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gema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2353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318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hat mir gut gefalle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Florida gegang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Flor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Hote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ami besichtig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am See schwimmen gegang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8040" cy="376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69900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476440" cy="24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die Innenstadt fotograf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viel Sport gemacht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954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71296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Ich war im Museum gesehen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6:07Z</dcterms:created>
  <dc:creator>CUSD220</dc:creator>
  <dc:description/>
  <dc:language>en-US</dc:language>
  <cp:lastModifiedBy>Murphy</cp:lastModifiedBy>
  <dcterms:modified xsi:type="dcterms:W3CDTF">2011-11-20T22:06:37Z</dcterms:modified>
  <cp:revision>4</cp:revision>
  <dc:subject/>
  <dc:title>Ich war in Flordia!</dc:title>
</cp:coreProperties>
</file>